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440-30C0-414F-AF0A-8BC99A0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2B5-8168-46A1-8328-B4C4F014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D32-9C52-46BA-829A-D35AA552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E4C-12E3-4A02-947C-77126D22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E804-2CF7-4A5D-95F9-2D3A1B1F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CBE9-3712-4A80-89B4-2A7EED39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132-DA2A-4753-96B4-796DFFE5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7A7-80B0-4DCD-B1D0-ED6D8C0C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A0E3-BEE3-4EB1-AD15-2FE7B7D4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279D-56F5-430E-B8B7-F1ED9B6E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EF8F-C626-4ABA-8C91-8DA85BB4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171-5FCC-4961-A1D3-584C1E19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7273-948B-4C13-B940-F60637D3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F336-94C9-4DDC-A75E-8EFC082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D32-2AB1-4AE4-859B-A7944AD3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53B0-48CD-4FD4-BEB4-8DA19D82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E6A1-D16C-4527-B0F0-DA706B72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0F62-35CE-4E90-B0EE-4319E3B9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FA53-C601-407F-BEA8-41156D0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E0EC7-2C65-4917-A472-FA817A42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42FD-3B20-40DE-B145-FF41480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E5CA-D5A8-4DD6-AB40-CB1704F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49F-8097-45C4-859A-CABF44AD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5D940-CEA0-4A4A-945A-2FE5B6C8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9BF0-34CD-44B6-9C26-F8F5C669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21816-8B20-4092-B8A0-95359412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0857-F71A-46DD-8F31-40975B7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3EDE8-DC38-48B3-8B12-244AA386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C484-5117-40F5-A2CE-698B10DD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F8EF-BFB7-43A1-948E-A0F8F1E9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8E071-E131-4475-BD4E-DD71D0C2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3577-5185-4239-B3B0-CE5BA021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7B424-9D13-4073-BBDD-CFFA58D3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F443-12BC-4C25-B4B2-8AED3906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9710-CE0B-4FD7-91F4-31EA433D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1F4B5-3268-44FC-BEC5-307909B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DDB3-7DC0-4091-BCA4-00C1AF24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C4F3-2197-4A2C-BECF-A8E916B8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1D24A-E5FF-4665-97CD-62FDB529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5231F-82A8-44EF-A931-B4007F89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57061-5B36-43FE-BFFA-F7322017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0F2A8-7213-4785-9DC1-EDC1DDA4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9D0B-FCA5-4090-A557-BF7E6642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B1D82-8898-4725-9458-DC9E3485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196-2DCA-4519-A22E-EBB76E17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28214-FB3C-400C-AE4E-9F5546F2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F6025-40DA-4A11-B153-D379792C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5015-046D-475F-B454-D846E091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0FED-3336-4BF8-AB7F-EAA077B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38312-D097-473D-B897-A66F574E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AFF3F-8B06-460F-9487-9F6E081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EF30F-D107-4814-8628-2D8CEB11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203B-067B-469A-8BFD-CDC426F6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00C09-73AE-43F2-92FD-4FD07A59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81858-AB56-4052-9C80-736F504F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214-5684-49B4-A8AA-4DF29500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ACBD-A50F-4E46-884F-7836E21A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9B5F-5C75-4DB9-8EB7-FDAF858E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042FC-E5C9-48C1-90F8-16E4E8CF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47A41-66E7-4ABC-B124-0DDE6C30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2F1B9-7080-4B2B-91AF-DF84DD8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B5CBD-E7EE-45B6-8D02-A268C53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BC4A-B850-4A17-A0B4-DAAA5447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9626-1005-4AFB-9EDC-F212FF4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F24D-1C73-459F-8742-736640E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20110-B427-465B-A93F-679F9F9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8D5-0F59-4664-B4DF-7620B730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ED0B-2A4E-4A5F-88AC-F47CC7BE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6186-BBFF-4BEF-BDA9-B90CE56B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7C3EB-A59E-4CC8-B08A-40A9EB09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C60CE-5E7A-4606-BB88-3CD6B7B3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88EC-6219-43B7-A0B8-A8AE561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E3FA8-2910-4068-B91D-59E08C30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2A029-A51E-452B-9332-EC90A83B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6ECB-99C4-48E9-8B23-024EAAFE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48F70-0844-4465-A448-0D80B5D9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ECDC6-4817-4376-AF73-D09F0A7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0B5-A214-4004-8648-2B1333CE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B0107-96AE-4F2D-B02B-AE74486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73634-121B-48CA-BF4C-37B7277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A958-42E3-4B1D-BED5-C7A7BE33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15A5E-F084-496E-91A1-D73A96E9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CFD7D-F4D4-4137-A050-1282BCEA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189-6A25-4480-B335-6459D95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028-66E4-44C3-AB56-6EDE2FCDAE1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35AE-02BE-458E-A019-0D7A2E4BC98B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3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4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0AA9-D13B-4319-982C-FAD76DC42EA7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5B4-AB86-4605-A53B-23534ED21527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3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4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41DB-AFE6-4F9F-BB26-2D439D4BBAA0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545C-C464-4378-8450-0529F3241688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B29A-A710-4ABD-9F05-9AC6B01986DC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133E-E1A2-4156-923F-620B06B6E40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4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5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56B-A3C2-465D-AAFC-C3707A65FB9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05B-16A3-470A-A969-10192B97FDD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4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5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D9F-200E-405C-8C90-04E7E79DB49F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CAD6-D4D1-4845-B209-800AEEC2CE12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3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4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F7DC-9764-4432-A801-8205EE948CA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E7DC-53A9-4579-A4B8-2D123E577AB7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cs.wikipedia.org/wiki/Soubor:Blood_donation_bruise.jpg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1835280" y="5373720"/>
            <a:ext cx="539100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8209080" cy="4464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Fyzikální příčiny nemocí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Y_32_INOVACE_KLN.2.0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5.11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18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3 zahrnuje výklad fyzikálních příčin poškození organismu – tj. mechanických a tepelných příčin, záření a atmosférických vlivů a jejich možných dopadů.  Prezentace je zakončena sérií otázek k zopakování látky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áře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Infračerven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způsobí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Popálení, zákal oční čočk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Záněty kůže, riziko zhoubných jkožních nádorů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Ionizujíc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gama, RT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škozuje tkáně – které? Jak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Atmosferické vliv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ad 4000 m.n.m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akutní výšková (horská) nemoc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otok plic a mozku, trombóza v kapilárá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áhlé snížení atm. tlaku (např. při rychlém vyplavání z hloubky) 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Dekomprese …. vzduchová embol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Vyjmenujte co nejvíc fyzikálních vlivů, které mohou poškodit tělo člověka a jejich možné následk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Co j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zlomenina (fractura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pohmožděnina (contusio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vykloubení (luxac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popálenina (combustio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omrzlina (congelatio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podchlazení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přehřátí, úžeh, úp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 výšková/horská nemoc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dekompre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- jaké druhy záření znáte a jak mohou poškodit tělo člověka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FYZIKÁLNÍ PŘÍČINY NEMOCÍ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Fyzikální příčiny nemoc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vlivy se při nich uplatní – jak fungují, co způsobují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Picture 2" descr="Soubor:Blood donation bruise.jpg"/>
          <p:cNvPicPr/>
          <p:nvPr/>
        </p:nvPicPr>
        <p:blipFill>
          <a:blip r:embed="rId1"/>
          <a:stretch/>
        </p:blipFill>
        <p:spPr>
          <a:xfrm>
            <a:off x="250920" y="2781360"/>
            <a:ext cx="1824120" cy="1368360"/>
          </a:xfrm>
          <a:prstGeom prst="rect">
            <a:avLst/>
          </a:prstGeom>
          <a:ln w="0">
            <a:noFill/>
          </a:ln>
        </p:spPr>
      </p:pic>
      <p:sp>
        <p:nvSpPr>
          <p:cNvPr id="311" name="Obdélník 6"/>
          <p:cNvSpPr/>
          <p:nvPr/>
        </p:nvSpPr>
        <p:spPr>
          <a:xfrm>
            <a:off x="250920" y="4221000"/>
            <a:ext cx="1728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PODLI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http://cs.wikipedia.org/wiki/Soubor:Blood_donation_bruise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Soubor:Gunshot skull.jpg"/>
          <p:cNvPicPr/>
          <p:nvPr/>
        </p:nvPicPr>
        <p:blipFill>
          <a:blip r:embed="rId3"/>
          <a:stretch/>
        </p:blipFill>
        <p:spPr>
          <a:xfrm>
            <a:off x="6804000" y="2421000"/>
            <a:ext cx="1698480" cy="1184040"/>
          </a:xfrm>
          <a:prstGeom prst="rect">
            <a:avLst/>
          </a:prstGeom>
          <a:ln w="0">
            <a:noFill/>
          </a:ln>
        </p:spPr>
      </p:pic>
      <p:sp>
        <p:nvSpPr>
          <p:cNvPr id="313" name="Obdélník 8"/>
          <p:cNvSpPr/>
          <p:nvPr/>
        </p:nvSpPr>
        <p:spPr>
          <a:xfrm>
            <a:off x="6858000" y="3789360"/>
            <a:ext cx="2035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TŘELNÁ R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ttp://cs.wikipedia.org/wiki/Soubor:Gunshot_skull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File:Elbow1.jpg"/>
          <p:cNvPicPr/>
          <p:nvPr/>
        </p:nvPicPr>
        <p:blipFill>
          <a:blip r:embed="rId4"/>
          <a:stretch/>
        </p:blipFill>
        <p:spPr>
          <a:xfrm>
            <a:off x="2195640" y="2997360"/>
            <a:ext cx="2016000" cy="2568240"/>
          </a:xfrm>
          <a:prstGeom prst="rect">
            <a:avLst/>
          </a:prstGeom>
          <a:ln w="0">
            <a:noFill/>
          </a:ln>
        </p:spPr>
      </p:pic>
      <p:sp>
        <p:nvSpPr>
          <p:cNvPr id="315" name="Obdélník 10"/>
          <p:cNvSpPr/>
          <p:nvPr/>
        </p:nvSpPr>
        <p:spPr>
          <a:xfrm>
            <a:off x="2195640" y="5661000"/>
            <a:ext cx="17287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VYKLOUB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ttp://commons.wikimedia.org/wiki/File:Elbow1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8" descr="Soubor:Frostbitten hands.jpg"/>
          <p:cNvPicPr/>
          <p:nvPr/>
        </p:nvPicPr>
        <p:blipFill>
          <a:blip r:embed="rId5"/>
          <a:stretch/>
        </p:blipFill>
        <p:spPr>
          <a:xfrm>
            <a:off x="6948360" y="4581360"/>
            <a:ext cx="1870200" cy="1231920"/>
          </a:xfrm>
          <a:prstGeom prst="rect">
            <a:avLst/>
          </a:prstGeom>
          <a:ln w="0">
            <a:noFill/>
          </a:ln>
        </p:spPr>
      </p:pic>
      <p:sp>
        <p:nvSpPr>
          <p:cNvPr id="317" name="Obdélník 12"/>
          <p:cNvSpPr/>
          <p:nvPr/>
        </p:nvSpPr>
        <p:spPr>
          <a:xfrm>
            <a:off x="7093080" y="5805360"/>
            <a:ext cx="1709640" cy="12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MRZL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ttp://cs.wikipedia.org/wiki/Soubor:Frostbitten_hands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0" descr="Soubor:Lightning over Oradea Romania cropped.jpg"/>
          <p:cNvPicPr/>
          <p:nvPr/>
        </p:nvPicPr>
        <p:blipFill>
          <a:blip r:embed="rId6"/>
          <a:stretch/>
        </p:blipFill>
        <p:spPr>
          <a:xfrm>
            <a:off x="4500720" y="3284640"/>
            <a:ext cx="1914480" cy="2016000"/>
          </a:xfrm>
          <a:prstGeom prst="rect">
            <a:avLst/>
          </a:prstGeom>
          <a:ln w="0">
            <a:noFill/>
          </a:ln>
        </p:spPr>
      </p:pic>
      <p:sp>
        <p:nvSpPr>
          <p:cNvPr id="319" name="Obdélník 14"/>
          <p:cNvSpPr/>
          <p:nvPr/>
        </p:nvSpPr>
        <p:spPr>
          <a:xfrm>
            <a:off x="4500720" y="5445000"/>
            <a:ext cx="20700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ttp://cs.wikipedia.org/wiki/Soubor:Lightning_over_Oradea_Romania_cropped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Mechanické příčin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to může bý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tlak, bodná rána, střelná rána, odření, řez, sečné poranění, rozdrcení, úder,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sledk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úrazy (traumata) = fraktury, luxace, distorze,  ruptura, bolest, hematomy, hemoragie,…rozvoj  šoku…smr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Tepelné příčiny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Jak vzniknou?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Působením vyšších teplot =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přehřátí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 (úžeh, úpal – jak vypadá?)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Úpal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je reakce organismu na jakoukoliv tepelnou expozici. Výsledkem je přehřátí organismu ze selhání jeho vlastní termoregulac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Příznaky jsou bolest hlavy, závrať, nevolnost až zvracení, zrychlené dýchání, zrychlený tep. Stav se může velmi rychle zhoršovat do bezvědomí s křečemi až do šokového stavu. Je silně zvýšena tělesná teplota (nad 40 stupňů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Úžeh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neboli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sluneční úpal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představuje podráždění mozku a jeho blan přímým slunečním zářením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Příznaky jsou podobné. Na rozdíl od úpalu mohou zde přicházet příznaky s časovým zpožděním po sluneční expozici, např. v noci po slunění. Může být opálení sluncem, nebo i spálená kůže + je přítomno ztuhnutí šíje a podobné příznaky jako u zápalu mozkových blan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Prevencí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 je dostatek tekutin, střídavé ochlazování (koupání, sprchování, zvlhčování kůže), pokrývka hlavy a zvlhčování vlasů (jsou-li jaké) zvláště u dětí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nebo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popálenin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nižších teplot =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nachlazení, podchlazení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(pod 32°C),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smrt chladem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(pod 28°C) nebo </a:t>
            </a: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omrzlin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páleniny (combustio)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upně popáleni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eryté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puchýře, záně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nekrózy – zasažena pokožka a škár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 nekrózy, hlubší zasažení, zuhelnatě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vní pomoc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3A.jpg"/>
          <p:cNvPicPr/>
          <p:nvPr/>
        </p:nvPicPr>
        <p:blipFill>
          <a:blip r:embed="rId1"/>
          <a:stretch/>
        </p:blipFill>
        <p:spPr>
          <a:xfrm>
            <a:off x="1187280" y="4365720"/>
            <a:ext cx="1175040" cy="1366920"/>
          </a:xfrm>
          <a:prstGeom prst="rect">
            <a:avLst/>
          </a:prstGeom>
          <a:ln w="0">
            <a:noFill/>
          </a:ln>
        </p:spPr>
      </p:pic>
      <p:sp>
        <p:nvSpPr>
          <p:cNvPr id="327" name="Obdélník 4"/>
          <p:cNvSpPr/>
          <p:nvPr/>
        </p:nvSpPr>
        <p:spPr>
          <a:xfrm>
            <a:off x="2252520" y="4797360"/>
            <a:ext cx="44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ttp://www.bolito.cz/cz/popalenin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mrzliny (congelatio)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tupně jako u popáleni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vní pomoc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ásah elektrickým proudem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120-220V 50Hz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Bles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Následky?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cs-CZ" sz="1100" spc="-1" strike="noStrike">
                <a:solidFill>
                  <a:srgbClr val="000000"/>
                </a:solidFill>
                <a:latin typeface="Corbel"/>
              </a:rPr>
              <a:t>http://www.bolito.cz/cz/popaleniny.html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pále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fibrilace srdečních komor – selhání oběh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sm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moc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2" descr="C:\Users\Veronika\Desktop\3B.jpg"/>
          <p:cNvPicPr/>
          <p:nvPr/>
        </p:nvPicPr>
        <p:blipFill>
          <a:blip r:embed="rId1"/>
          <a:stretch/>
        </p:blipFill>
        <p:spPr>
          <a:xfrm>
            <a:off x="4067280" y="1916280"/>
            <a:ext cx="1646280" cy="20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9:13:45Z</dcterms:created>
  <dc:creator>Veronika</dc:creator>
  <dc:description/>
  <dc:language>en-US</dc:language>
  <cp:lastModifiedBy>Chalupna</cp:lastModifiedBy>
  <dcterms:modified xsi:type="dcterms:W3CDTF">2014-03-31T20:40:27Z</dcterms:modified>
  <cp:revision>12</cp:revision>
  <dc:subject/>
  <dc:title>Snímek 1</dc:title>
</cp:coreProperties>
</file>